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ECD6-0386-4A04-AEF0-7A86F4A0D1E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559-CBF6-4A63-96A1-FFA0C287604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D79-EF85-4F13-BC25-038C812B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59E-EF1A-436C-A5CC-81647287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86D-89F3-4BE0-9254-73F63D5D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E7B-4B5E-404B-A791-60F033E2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7E59-8E50-4F3A-ACA2-C3370B30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DDA8-9D8C-4590-A11C-69FB571E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6845-A47E-4E92-A52D-0731D0D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B83-7BEC-4E90-8898-959A727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1AA1-9378-465E-8A0A-3917CE73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5B56-5415-4B2D-AE4D-981ABC89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45C2-E5A2-4B78-A3EE-CE0BAF2A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F9B-DAA7-4F06-B677-372278B6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8D3-6E5E-4D07-B7C0-C81C7E62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26AC-0296-45A1-AF76-136D60E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F01D-9A30-4322-974C-FF3E3121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4726-98F4-452D-A28E-38FAD88E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6CAF-E5C4-49D2-A386-DC3B0DBA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5C72-25AB-41E4-8DA6-76D4206C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A751-5E64-4865-ADE6-B36E273B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B204-191B-4A7A-B029-BC6EF89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119B-C4C4-4AE8-BD1E-94579D48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C9AE-0F4B-4284-B7F5-3689F1D8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34E-1094-4320-B610-D9C24D72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BF62-9827-4BC9-AFA5-9D3E326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9832-F971-43EF-A178-C7D3264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5185-A024-46F9-A8A0-8FD878F1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26DF-6735-4A5F-A812-AAEA195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D08E-A8EE-4B13-93C7-05B0745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1056-60FC-4844-8AAD-A5DBB9F1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4B8D-F78C-4E72-9D73-C7A3857F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D102-5035-48F7-A691-E80CB2C4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F294-1BA6-42EA-A10C-E6803DC9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FA08-356D-48BF-9DBB-807B5406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A8D-A543-4194-BEC0-BFA92CC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B4B5-723D-480C-802C-D88E03E4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66760-6392-4166-BF8A-E7B9B400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C0C3-5B8D-452A-8F57-CCC70A8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7E3F-BECE-434E-A7CB-FB2E1DF2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70F0-2F62-4CC2-BAFB-8C90517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50DD5-1011-4DEC-8761-CA1C83FF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7ECB-1FB5-4D92-BC4E-E3559F41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A270-006C-4FE6-9D12-375F594D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B4BF-6C2E-4E46-90F4-B9A0532F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81A5-2196-4E33-BB7E-98722804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2DE-3B2E-47FA-93B3-007DD4F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907B-CA96-457C-9EA5-F0C32A28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C1D8A-CA52-431E-9819-8A6EFB4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BF422-C4E1-408F-BD24-F64791C6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296FA-54EE-4E8A-879F-DB6B474B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B7C1F-E020-4C70-A95C-916B6551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30F73-3636-4C0F-BCC5-601464D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6209-0AF7-4289-89DA-D3B8CF7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C695E-B4BB-4C9F-9FB9-10A32D19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7202-C819-4840-A135-AF6C4C10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A111-5339-463C-8500-87FD7FC9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C87-0A11-4DE0-B5EB-5CD0FC31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4E20-4B8F-4C80-B9C0-C4FCCB04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8C53A-21F0-46CE-9BDB-EEDCA37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90A9-AAAB-46D1-9C63-4801938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688D-A370-4228-B2FB-B595DE67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966D-D51B-4398-B691-C977A020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C988-A47E-471E-9D4E-BDBB84B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7805-C0CC-4715-BA2D-C5F05690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F2949-19B0-478D-A586-7641AFE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EEF93-04DC-4C78-B712-028B73EE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32E28-F6C4-4E93-96D5-5DF4651C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334-3845-4950-AAF6-5CD04CB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5A2CE-8E8F-48FF-BA8A-53EDA48E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2AD1-F56F-4A9D-B482-FA51B41C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436F-3FAD-4A9B-B3FA-8F1B3724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B08B-A43D-4F77-B0C5-FD7021D9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0228-3EA7-4E29-8E8C-897AAAB7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48FF5-D14D-4D2B-AE05-A2F33A02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30D9-F58B-4F19-84EA-5DCF39F8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FD2D7-40B0-4B0D-AC91-198E1E95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C479-0BA6-40A0-A2CC-4701DF4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064AA-2BD6-469A-BC68-74D9C7D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50E-B4A3-410D-A0F6-14AB0F6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E72D7-66F7-4B30-AA2D-7293AEA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982D5-8FEA-44C0-BE9B-EC89BCC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8D199-08C2-44A9-AE05-B6DBC71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76469-E94E-41AB-B49A-7210F927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C863F-A177-4EE0-9B8E-92A3E18D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855-7268-42E7-B105-0D6A5841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47D9-C0F5-43EB-9B94-C2BC3B6C814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6EC3-B69F-4003-93FA-A3ED716283E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C64-6DBF-435E-8317-9F018729B6A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4794-77E0-41DC-A3D0-6D0D1659516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2F53-FB0D-4AC3-8B75-5CE3927B0E9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87A-BF2F-47C7-A0AA-66C26A20AD0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Times New Roman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666C-4B0C-4CDD-9389-981B887F490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iglesias@itsb.com.ar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andara"/>
              </a:rPr>
              <a:t>Registraciones Digitales en Entidades de Salud Publicas y Privada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ndara"/>
              </a:rPr>
              <a:t>Historias Clínicas Digitales y Receta Electrón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ndara"/>
              </a:rPr>
              <a:t>Ventajas y desafí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Dra. Silvia Iglesia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ontent Placeholder 3" descr=""/>
          <p:cNvPicPr/>
          <p:nvPr/>
        </p:nvPicPr>
        <p:blipFill>
          <a:blip r:embed="rId1"/>
          <a:stretch/>
        </p:blipFill>
        <p:spPr>
          <a:xfrm>
            <a:off x="847800" y="2670120"/>
            <a:ext cx="7442280" cy="34686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ontent Placeholder 3" descr=""/>
          <p:cNvPicPr/>
          <p:nvPr/>
        </p:nvPicPr>
        <p:blipFill>
          <a:blip r:embed="rId1"/>
          <a:stretch/>
        </p:blipFill>
        <p:spPr>
          <a:xfrm>
            <a:off x="817560" y="2670120"/>
            <a:ext cx="7472520" cy="34686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Content Placeholder 3" descr=""/>
          <p:cNvPicPr/>
          <p:nvPr/>
        </p:nvPicPr>
        <p:blipFill>
          <a:blip r:embed="rId1"/>
          <a:stretch/>
        </p:blipFill>
        <p:spPr>
          <a:xfrm>
            <a:off x="817560" y="2670120"/>
            <a:ext cx="7472520" cy="34686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ontent Placeholder 3" descr=""/>
          <p:cNvPicPr/>
          <p:nvPr/>
        </p:nvPicPr>
        <p:blipFill>
          <a:blip r:embed="rId1"/>
          <a:stretch/>
        </p:blipFill>
        <p:spPr>
          <a:xfrm>
            <a:off x="865080" y="2670120"/>
            <a:ext cx="7413840" cy="35114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3" descr=""/>
          <p:cNvPicPr/>
          <p:nvPr/>
        </p:nvPicPr>
        <p:blipFill>
          <a:blip r:embed="rId1"/>
          <a:stretch/>
        </p:blipFill>
        <p:spPr>
          <a:xfrm>
            <a:off x="792000" y="2670120"/>
            <a:ext cx="7602840" cy="34686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ontent Placeholder 3" descr=""/>
          <p:cNvPicPr/>
          <p:nvPr/>
        </p:nvPicPr>
        <p:blipFill>
          <a:blip r:embed="rId1"/>
          <a:stretch/>
        </p:blipFill>
        <p:spPr>
          <a:xfrm>
            <a:off x="822240" y="2670120"/>
            <a:ext cx="7467840" cy="3468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847800" y="2670120"/>
            <a:ext cx="7442280" cy="3468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65080" y="2670120"/>
            <a:ext cx="7425000" cy="34686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71560" y="2420640"/>
            <a:ext cx="740880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73e87"/>
                </a:solidFill>
                <a:latin typeface="Candara"/>
              </a:rPr>
              <a:t>Clave Asimétric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Date Placeholder 2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Candara"/>
              </a:rPr>
              <a:t>Firma Electrónica/Digital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412" name="Text Box 7"/>
          <p:cNvGrpSpPr/>
          <p:nvPr/>
        </p:nvGrpSpPr>
        <p:grpSpPr>
          <a:xfrm>
            <a:off x="4896000" y="3876840"/>
            <a:ext cx="3492360" cy="944280"/>
            <a:chOff x="4896000" y="3876840"/>
            <a:chExt cx="3492360" cy="944280"/>
          </a:xfrm>
        </p:grpSpPr>
        <p:pic>
          <p:nvPicPr>
            <p:cNvPr id="413" name="Text Box 7" descr=""/>
            <p:cNvPicPr/>
            <p:nvPr/>
          </p:nvPicPr>
          <p:blipFill>
            <a:blip r:embed="rId1"/>
            <a:stretch/>
          </p:blipFill>
          <p:spPr>
            <a:xfrm>
              <a:off x="4896000" y="3876840"/>
              <a:ext cx="34923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989600" y="3943440"/>
              <a:ext cx="3311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lave publica</a:t>
              </a: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Es publica y verifica la privada</a:t>
              </a: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15" name="Text Box 7"/>
          <p:cNvGrpSpPr/>
          <p:nvPr/>
        </p:nvGrpSpPr>
        <p:grpSpPr>
          <a:xfrm>
            <a:off x="1096920" y="3876840"/>
            <a:ext cx="3157560" cy="944280"/>
            <a:chOff x="1096920" y="3876840"/>
            <a:chExt cx="3157560" cy="944280"/>
          </a:xfrm>
        </p:grpSpPr>
        <p:pic>
          <p:nvPicPr>
            <p:cNvPr id="416" name="Text Box 7" descr=""/>
            <p:cNvPicPr/>
            <p:nvPr/>
          </p:nvPicPr>
          <p:blipFill>
            <a:blip r:embed="rId2"/>
            <a:stretch/>
          </p:blipFill>
          <p:spPr>
            <a:xfrm>
              <a:off x="1096920" y="3876840"/>
              <a:ext cx="3157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162080" y="3943440"/>
              <a:ext cx="3027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lave privada</a:t>
              </a: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Sólo la conoce el emisor</a:t>
              </a: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18" name="TextBox 6"/>
          <p:cNvSpPr/>
          <p:nvPr/>
        </p:nvSpPr>
        <p:spPr>
          <a:xfrm>
            <a:off x="2031120" y="4925880"/>
            <a:ext cx="55771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ndara"/>
              </a:rPr>
              <a:t>No se puede obtener la clave privada de la public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1440000" y="5543640"/>
            <a:ext cx="1655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ndara"/>
              </a:rPr>
              <a:t>Son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ndara"/>
              </a:rPr>
              <a:t>diferente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0" name="TextBox 8"/>
          <p:cNvSpPr/>
          <p:nvPr/>
        </p:nvSpPr>
        <p:spPr>
          <a:xfrm>
            <a:off x="6171840" y="5543640"/>
            <a:ext cx="21452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ndara"/>
              </a:rPr>
              <a:t>Matemáticament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Candara"/>
              </a:rPr>
              <a:t>asociada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21" name="Picture 8" descr=""/>
          <p:cNvPicPr/>
          <p:nvPr/>
        </p:nvPicPr>
        <p:blipFill>
          <a:blip r:embed="rId3"/>
          <a:stretch/>
        </p:blipFill>
        <p:spPr>
          <a:xfrm>
            <a:off x="5025960" y="3213000"/>
            <a:ext cx="1432080" cy="639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"/>
          <p:cNvPicPr/>
          <p:nvPr/>
        </p:nvPicPr>
        <p:blipFill>
          <a:blip r:embed="rId4"/>
          <a:stretch/>
        </p:blipFill>
        <p:spPr>
          <a:xfrm>
            <a:off x="2906640" y="3213000"/>
            <a:ext cx="1427400" cy="639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"/>
          <p:cNvPicPr/>
          <p:nvPr/>
        </p:nvPicPr>
        <p:blipFill>
          <a:blip r:embed="rId5"/>
          <a:stretch/>
        </p:blipFill>
        <p:spPr>
          <a:xfrm>
            <a:off x="4354560" y="3084480"/>
            <a:ext cx="725400" cy="689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3" descr="C:\Users\Owner\AppData\Local\Microsoft\Windows\Temporary Internet Files\Content.IE5\P2HF692R\MC900438792[1].jpg"/>
          <p:cNvPicPr/>
          <p:nvPr/>
        </p:nvPicPr>
        <p:blipFill>
          <a:blip r:embed="rId6"/>
          <a:stretch/>
        </p:blipFill>
        <p:spPr>
          <a:xfrm>
            <a:off x="2355840" y="2825640"/>
            <a:ext cx="638280" cy="1054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"/>
          <p:cNvPicPr/>
          <p:nvPr/>
        </p:nvPicPr>
        <p:blipFill>
          <a:blip r:embed="rId7"/>
          <a:stretch/>
        </p:blipFill>
        <p:spPr>
          <a:xfrm>
            <a:off x="6327720" y="2836800"/>
            <a:ext cx="633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4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ontent Placeholder 3" descr=""/>
          <p:cNvPicPr/>
          <p:nvPr/>
        </p:nvPicPr>
        <p:blipFill>
          <a:blip r:embed="rId1"/>
          <a:stretch/>
        </p:blipFill>
        <p:spPr>
          <a:xfrm>
            <a:off x="828720" y="2670120"/>
            <a:ext cx="7461360" cy="34686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Desafíos de la 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865080" y="2670120"/>
            <a:ext cx="7425000" cy="34686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Ley 26.529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Consulta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Dra. Silvia Iglesias 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siglesias@itsb.com.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kype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syssil6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uchas Gracias!!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Date Placeholder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ontent Placeholder 3" descr=""/>
          <p:cNvPicPr/>
          <p:nvPr/>
        </p:nvPicPr>
        <p:blipFill>
          <a:blip r:embed="rId1"/>
          <a:stretch/>
        </p:blipFill>
        <p:spPr>
          <a:xfrm>
            <a:off x="865080" y="2670120"/>
            <a:ext cx="7425000" cy="3468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Ley 26.529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Content Placeholder 3" descr=""/>
          <p:cNvPicPr/>
          <p:nvPr/>
        </p:nvPicPr>
        <p:blipFill>
          <a:blip r:embed="rId1"/>
          <a:stretch/>
        </p:blipFill>
        <p:spPr>
          <a:xfrm>
            <a:off x="822240" y="2670120"/>
            <a:ext cx="7467840" cy="346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Ley 26.529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865080" y="2670120"/>
            <a:ext cx="7425000" cy="34686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Ley 26.529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804960" y="2073240"/>
            <a:ext cx="7596000" cy="4321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Ventajas de la informatización de los Registros de Salud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817560" y="2670120"/>
            <a:ext cx="7472520" cy="35416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Content Placeholder 3" descr=""/>
          <p:cNvPicPr/>
          <p:nvPr/>
        </p:nvPicPr>
        <p:blipFill>
          <a:blip r:embed="rId1"/>
          <a:stretch/>
        </p:blipFill>
        <p:spPr>
          <a:xfrm>
            <a:off x="822240" y="2670120"/>
            <a:ext cx="7467840" cy="3468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ontent Placeholder 3" descr=""/>
          <p:cNvPicPr/>
          <p:nvPr/>
        </p:nvPicPr>
        <p:blipFill>
          <a:blip r:embed="rId1"/>
          <a:stretch/>
        </p:blipFill>
        <p:spPr>
          <a:xfrm>
            <a:off x="847800" y="2670120"/>
            <a:ext cx="7442280" cy="34686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ndara"/>
              </a:rPr>
              <a:t>Como cumple una HC digital la Ley 26.529 Derechos del Pacient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Date Placeholder 1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73e87"/>
                </a:solidFill>
                <a:latin typeface="Candara"/>
              </a:rPr>
              <a:t>3/5/2012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Dra. Silvia Iglesias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2:09:51Z</dcterms:created>
  <dc:creator>Sil</dc:creator>
  <dc:description/>
  <dc:language>en-US</dc:language>
  <cp:lastModifiedBy>Hernán Castillejo</cp:lastModifiedBy>
  <dcterms:modified xsi:type="dcterms:W3CDTF">2012-05-08T22:59:22Z</dcterms:modified>
  <cp:revision>33</cp:revision>
  <dc:subject/>
  <dc:title>Registraciones digitales en entidades de Salud publicas y privadas</dc:title>
</cp:coreProperties>
</file>